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6619-BC4C-48D4-9567-22F20FFF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C902-D646-4829-AB43-FC0129EA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D7BE-805C-4EE1-85C0-9B620BBF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0E98-262D-4AC2-A923-01B8F5BB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D53-AA17-4056-8C4D-17139182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B99A-AAAE-4458-97AD-30A2B1CB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1DCA-6EF7-4A73-9D6E-3679C794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D1D8-CB6B-46DE-A574-C7C33A58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E02A-9057-4FD1-9BDE-09D20F66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5848-96A6-4FF9-8487-211EF25E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B209-DAE8-4AEA-AE2A-81779B4B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01B8-0116-4F0A-A816-78D6A74D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0456-2FD4-4C0E-BEA3-53D79B288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sund lab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ga And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ür meine Gesundheit esse ich Obst und Gemüse jeden t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523880" y="2666880"/>
            <a:ext cx="5688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laufe jeden tag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ür meine Gesundhe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447920" y="3048120"/>
            <a:ext cx="33433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ür meine Gesundheit ich, g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ügend schläfen sie schl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2514600" y="3124080"/>
            <a:ext cx="3314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ch finde es nicht gut, wenn du rau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4952880" y="3352680"/>
            <a:ext cx="29908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ch finde es gut, wenn mine freund die sonne vermei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4191120" y="2438280"/>
            <a:ext cx="3914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darf der kakao trin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trinke keinen Alkohol, weil sie nicht so gu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ür meine gesundhe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438280" y="2971800"/>
            <a:ext cx="22194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8:07:17Z</dcterms:created>
  <dc:creator>CUSD220</dc:creator>
  <dc:description/>
  <dc:language>en-US</dc:language>
  <cp:lastModifiedBy>Kurt</cp:lastModifiedBy>
  <dcterms:modified xsi:type="dcterms:W3CDTF">2012-02-28T23:50:05Z</dcterms:modified>
  <cp:revision>4</cp:revision>
  <dc:subject/>
  <dc:title>Gesund laben</dc:title>
</cp:coreProperties>
</file>